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196D-0B13-489F-BDD9-774F1FC58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of fragile state of content knowledge for teaching by teachers with whom we and other steering team leads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focus on CKT-M; a new vision with a focus on the big ideas in Number and other Relevant Big Ideas that focus on PR; anc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 and continued need to support MoE’s sharpened focus on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year’s breakout sessions will now be interwoven throughout all sessions; these will support participants in their exploration of the big ideas and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igate interconnections among these critical learnings as enabled throug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less speaking and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ing to expos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ing to provide appropriate scaffolding and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c planning to embed student success indicators with framework for math camppp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networks within and across boards will continue to grow leadership across the prov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ight of this year’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aching for Math GA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, a coaching dimension (specifically co-planning) will be embedded within the camppp.  This will provide participants with the opportunity to deepen their understanding of the big ideas and consider applications of DI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575-E0BA-495E-BD76-9AFFB48C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1B1-F720-4199-9347-71E909C2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6EC-C359-43A0-BF5A-1FE764DD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BF9-FD8B-4978-81B2-47C587D1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D416-B9AA-46C1-B89A-947AE505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36CF-FDFE-46D9-9F54-B84FAF5C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7A1A-FC26-48FE-B3D3-76E28D1B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429C-3A98-4AA2-BA70-A406B768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617F-4872-4374-ADAE-76030AE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3EC6-619D-4B00-AD2F-2CD2FA12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2FF3-8359-41B3-8136-A7E37D72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8D9-C541-42C4-B754-BB8E1B09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DFD9-1FEE-49CD-9E68-E8D56A3D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138B-B8CC-40E1-A2BD-D6F76EDC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BF4C-6C36-4ACD-8513-68CCD6CA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00F6-3737-4921-8CDB-8B1275F9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2332-FFA5-4C1D-9EB8-4E0A85B1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6E4-8CFA-4B6A-B2F5-8EB16ED2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C7F-D65B-454E-AF6D-0B0569C5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4E6-C2BD-4BB4-87D2-4D3083F8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41A-2E57-4DB3-B8B2-FB1EAB0C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F67-0304-4E92-872C-234EF29A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629-9E1D-4500-AE80-F707DDC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7AE-301C-4773-9736-4D3799B4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CE36-5A01-4B90-B84E-04D8EAE1310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488-B462-4A89-80A8-284433A9BF0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gains-camppp.wikispaces.com/CAMPPP+2010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0036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Welcome Session</a:t>
            </a:r>
            <a:br>
              <a:rPr sz="4800"/>
            </a:br>
            <a:r>
              <a:rPr b="0" lang="en-US" sz="1800" spc="-1" strike="noStrike">
                <a:solidFill>
                  <a:srgbClr val="0d469b"/>
                </a:solidFill>
                <a:latin typeface="Book Antiqua"/>
                <a:ea typeface="Arial"/>
              </a:rPr>
              <a:t>Monday August 16</a:t>
            </a:r>
            <a:r>
              <a:rPr b="0" lang="en-US" sz="1800" spc="-1" strike="noStrike" baseline="30000">
                <a:solidFill>
                  <a:srgbClr val="0d469b"/>
                </a:solidFill>
                <a:latin typeface="Book Antiqua"/>
                <a:ea typeface="Arial"/>
              </a:rPr>
              <a:t>th</a:t>
            </a:r>
            <a:r>
              <a:rPr b="0" lang="en-US" sz="1800" spc="-1" strike="noStrike">
                <a:solidFill>
                  <a:srgbClr val="0d469b"/>
                </a:solidFill>
                <a:latin typeface="Book Antiqua"/>
                <a:ea typeface="Arial"/>
              </a:rPr>
              <a:t>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&amp;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 Dalyrmple, York Regi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isa Suurtamm, DSB of Niag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en Timson, York Regi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ie Quadrini, York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lley Yearley, Trillium Lakelands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87640" y="3122640"/>
            <a:ext cx="3205080" cy="3619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00" y="21985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earless Speaking and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1430280"/>
            <a:ext cx="183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ponding to Provide Appropriate Scaffolding 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43120" y="9619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Questioning to Evoke and Expose 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27280" y="416736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stablishing Math Talk Learning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51280" y="495936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ssessment fo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583000"/>
            <a:ext cx="26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Differentiated Instruction through Quest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68720" y="4851360"/>
            <a:ext cx="16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ffective Uses of Manipulative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95640" y="3446640"/>
            <a:ext cx="30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Teaching through the Mathematical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00360" y="5672160"/>
            <a:ext cx="20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onsistency and Alignment of Assessments of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5294160"/>
            <a:ext cx="164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Building Networks Within and Across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56360" y="5211720"/>
            <a:ext cx="2051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Engaging in Reflective Practice through Collaborative Learning and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15350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Deepening Understanding of Pedagogical Conten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0920" y="206064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Focusing on Important Mathe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2360" y="2276640"/>
            <a:ext cx="3995640" cy="450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8720" y="87300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Big Ideas Relevant to Proportional Reas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920"/>
            <a:ext cx="644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Vision for Math CAMPPP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14920" y="2097000"/>
            <a:ext cx="169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eaching for Conceptual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657360"/>
            <a:ext cx="5616720" cy="6167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0" y="911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30440" y="1052640"/>
            <a:ext cx="3919680" cy="5322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oals for Math CAMPPP 2009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leave CAMPPP know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practise the following in a safe enviro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leave CAMPPP believing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for Number and Other Relevant Big Idea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71640" y="2016000"/>
            <a:ext cx="3645000" cy="4616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1881360"/>
          <a:ext cx="357984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357984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643280" y="1881360"/>
            <a:ext cx="3622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2.0 and PPQ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773360"/>
            <a:ext cx="3897360" cy="4824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51280" y="1736640"/>
            <a:ext cx="3826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916280"/>
            <a:ext cx="8388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enary Session Description &amp; Speaker 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ing the Big Ideas Relevant to Proportional Reasoning Meaningful to All of Our 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1916280"/>
            <a:ext cx="8388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cused Breakout Session Descriptions &amp; Speaker Biogra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-2: Proportional Reasoning: Laying the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-6: Proportional Reasoning: A Focus on Multiplic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/8: Proportional Reasoning: A Focus on Ratio and Fraction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/10: Proportional Reasoning: A Focus on Propor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/12: Proportional Reasoning: Building to More Complex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aders: Creating an Environment for Mathematical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 Se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, Getting to Know You &amp; 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 for Math CAMPPP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 CAMPP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CAMPPP Wiki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Usefu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76360" y="1700280"/>
            <a:ext cx="38293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lossary – Frayer Mode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31640" y="1925640"/>
            <a:ext cx="8256600" cy="4743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Network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day to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portunity for campppers to get to know one another and engage in informal focused conver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floor common area [sitting areas, pool tables, shuffleboard, et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rooms 2 and 3 [ tables &amp; chairs for board games] in Bayview will be the social gathering space. Each evening around 8:30 p.m. snacks and ice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space in Mardon Lo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7621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Housekee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th CAMPPP memory st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nse claims –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Video and artefact permission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king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Kempenfelt Conference Centre – phone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rking Lo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0880" y="2205000"/>
            <a:ext cx="361476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7280" y="7621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CAMPPP 2010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5910480" cy="2060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56000" y="4005360"/>
            <a:ext cx="550872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ains-camppp.wikispaces.com/CAMPPP+2010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008000" y="3970440"/>
            <a:ext cx="237672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6000" y="4689360"/>
            <a:ext cx="86868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d469b"/>
                </a:solidFill>
                <a:latin typeface="Arial"/>
                <a:ea typeface="Arial"/>
              </a:rPr>
              <a:t>Enjoy Math CAMPPP!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3640" y="1628640"/>
            <a:ext cx="7093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We all need someone who inspires us to do better than we know h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A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Ice Breaker…Getting to Know the Group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ganiz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ye Appleby, Retired – Lond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rna Ingalls, Ministry of Educati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ie Quadrini, Math Consultant – YCDS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ley Yearley, Math Consultant – TLDS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lenary Presenter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Marian Small, Consultant and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ynd, Retired from Trillium Lakelands 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nnis Fleming, Literacy and Numeracy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a Micomonaco, York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y Chaput, Wellington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Davis, Halt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yce Tonner, Thames Valley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&amp;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Ford, Kwartha Pine Ridge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elle Lang, Waterloo Regi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bie Wines, Trillium Lakelands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&amp;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Alves, Peel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ia Ellison, Halton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sh Steele, Simcoe County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10-07-19T17:49:07Z</dcterms:modified>
  <cp:revision>127</cp:revision>
  <dc:subject/>
  <dc:title>Slide 1</dc:title>
</cp:coreProperties>
</file>